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87A77-BDF9-4B2E-94AA-7AA8E46D52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56DE5-56BA-41C7-8E26-7945227D17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D7E2C-E43E-4E78-8E8B-8D08F86A92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C5BB9-A317-4149-AE0E-36A29E0B7A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B8410-0B9F-4BEB-8FA2-1402177565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909DA-0EDC-473D-8A65-C5A192DC0C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5E22C-DF01-41F8-B998-1D7B2DE79B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CEC9F-E6C9-4B28-85E8-B0ECAA4F46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D0EE0-1148-45A1-B4F7-EE5005F156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F7410-5BBA-4B0B-B9C8-0DBF74E049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9D0AC-6BE6-432F-9075-6CF62EAEAB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9DEE1-F47B-4EC5-9E42-39C3A07517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60359-A2DA-43AF-8460-10B594047F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4D89A-7CF1-415B-BB9B-F78DCC0269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141B7-C519-4F0E-AC95-4E4A927B8E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4BB1C-A0CE-4ED0-B5E5-B757BFCAF9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32D17-FE06-47EC-82D7-569C06FF6F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E6209-74AF-425A-A9B2-CE1C5162CD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9C27D-2A9F-4220-A78A-AB835977FB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DFA8C-DD21-4E2C-9076-1931A1ECFA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33F63-8B37-4BD4-ABD7-29000A8884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71FEB-BBFA-4E2F-BA2E-78F33AB675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38B78-C51F-44E5-B449-8E9284A2A8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CE0D7-11DD-4EE6-9AF5-8145119E8F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2A04B-2883-4FC8-A900-F4BFC59264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7E52F-B7A3-460C-9911-3A181EEDE6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940AE-418A-412D-9D55-34C6CE512A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C112E-CD97-4956-9CFE-113F5515BB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72447-A885-4246-B800-AF632CDC91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C3789-5210-4D1E-AE1B-3156BE1261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50CDF-B3A3-4B04-932C-3E4861AD0D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9FF88-AFA7-4050-B74C-E2E2CE71E6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AECD5-87F3-411A-A474-A47CEFA94C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660C2-B840-4AC8-9565-55C7C2D6CE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B06E3-A1A5-46CD-80A9-1AD1209B7A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40326-8845-4036-AEC8-68FE4A59AF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A7001-ECDF-4CE2-977C-153F7F9769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E1ED5-C286-42D4-8ED9-8FFE9F7A19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D1BF8-ED7B-4761-BBBF-D0DF1C3C3E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8EA44-1585-4F29-9B21-5010A91418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80054-3662-4A09-8679-091C042879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91F40-E252-4CE9-9AD5-AB664865B3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E3A95-AF10-4B06-8CFE-D5D3CBBF6A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44CB7-D79F-45A0-BF08-13022C2C5A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7E804-E589-477B-97D4-4B4EC9CB58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EAC21-0F61-465C-A21F-BDC7C698CB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6AC30-3510-4D76-AE1B-88C9219C04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54BEC-DE8F-477C-B7CE-D1C3F2BAAD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F1772-8708-45F0-A8E7-590787AB87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2D368-4A1C-4A6E-AED5-25FC0406A0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7D7C9-837E-40FC-B390-F63D94B01A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5EA74-93E5-4996-97CD-7946A29C3D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DAC3B-9927-4F0C-A050-D9F9E00C80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C7F0C-439A-44AD-9D97-EF18DF7625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848DE-FBC1-4393-9A62-24BBA1D595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B0072-4763-4A51-94F9-0C6BF15DF6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DCD44-D406-43AE-B0BB-1676703596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0C869-F6FE-43B8-8FF9-DAC3E12E42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A9A0C-946C-4436-86E4-2702601173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61D04-DDA7-4249-A220-249B07E7A2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8661C-87DD-46AA-9088-DD5A4AF2E2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2C183-5981-4D56-AFE4-A946F5C666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8E3BF-323C-48B2-A71C-293E7E2C0E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19AAC-4C14-42EE-BA12-C3D581E08C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629CB-9FD4-433B-9B05-5BE1498B13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56DD1-5C84-4A9A-9BE0-9D4446884A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1D2D5-5D53-4177-8848-DB6182E2A6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74806-99B5-41DE-B235-D7EABC4F0B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A4652-F1D5-43EA-8513-6ED37717A1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FB0BB-877A-4960-9652-5225A44C63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27BA3-435D-4A5F-8B2A-98465036DE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75EAD-58AA-4942-A931-0D4B54E507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D3A7E-07D7-4706-9C2C-449CD4CA4C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28630-056C-4D84-B853-F3ECCAD91D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C517E-75F0-46E9-9140-0C5497B4AF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DA02D-3A12-4F90-BE0C-C196381C25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41759-C544-4AC2-BD92-359759F5A8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8F25B-A6F2-4EB1-B69F-1A3DEA6E4D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B6026-DC0D-4FC7-BDD6-7E11354E8C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97D27-0666-4229-9D0E-ADC694DED2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A0ACA-E7BE-4D10-B911-5D79E0F0BA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40640-8E29-422D-B38A-5542B92D12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45D70-4341-453E-A743-379974E07B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FB689-5568-4508-9A9A-5F6E2AF0CE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EC152-A86B-4D27-BDDA-1D22178BBF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F87E1-4C8C-4E45-B30E-E0BB8778BB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EF2B6-168B-4209-83EB-CB1F80806B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17FF4-85C1-4AD3-9DD1-151AC20A34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9E78-0C17-4F89-AD03-00DA2AFB7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839E-3A59-47B1-9300-7E78AA203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DACE-1C59-469C-BDAE-35974F7D4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5338-15B2-480B-8534-426A467FC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8290-A59B-45F7-B237-755371F6A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6697-492D-4B5D-B696-57A59050C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DD2D-8890-4E83-8035-1D9EA2FFA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2B14-8984-4AF1-B8B5-64BB6F38D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6904-92FE-4794-BC4E-D39C20D23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DA33-1763-4C36-B3B8-C4FA42393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E749-B536-4BD0-B17B-BBC9921B6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D79B-0E22-4427-97E9-66F31276F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F3C76-6905-489A-9D0F-C8435AD59F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Last Updated 2011-09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4E109-E0D3-4127-85C5-154D2D6F8D7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64A77-F145-4DB4-8E44-B482D9AC0A0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9CB8E-C27A-4C5D-8970-91F9AC00FE9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17964-C89F-4D08-B61D-D6372760B5F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BB59E-3720-4D5B-AE14-78EBBC8C712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4754C-D9C8-4397-9617-9C76416ED16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463C8-AD65-4B6A-8224-51CA7A81BEA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D3313-B1BC-41E4-8272-7277A439404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BBF88-1504-4B43-A78F-9F18E8AC0F3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2F8DA-9AC1-4FC8-8F05-32A42DF514B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Very recen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Run target “deps” to build depend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n run the debug 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ote: Programs that require stdin do not work yet (Eclipse does not send E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print data structures using printAny(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BDC45-B29D-44B1-BAB0-27548745E10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57618-D621-43B5-A5CA-5D10B248C15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457200" y="569880"/>
            <a:ext cx="8001000" cy="506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59401-C297-4E29-897B-60425A4310A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up the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1"/>
          <p:cNvGrpSpPr/>
          <p:nvPr/>
        </p:nvGrpSpPr>
        <p:grpSpPr>
          <a:xfrm>
            <a:off x="5028840" y="1108080"/>
            <a:ext cx="3940560" cy="1182600"/>
            <a:chOff x="5028840" y="1108080"/>
            <a:chExt cx="3940560" cy="1182600"/>
          </a:xfrm>
        </p:grpSpPr>
        <p:sp>
          <p:nvSpPr>
            <p:cNvPr id="167" name="Line 4"/>
            <p:cNvSpPr/>
            <p:nvPr/>
          </p:nvSpPr>
          <p:spPr>
            <a:xfrm flipH="1">
              <a:off x="5028840" y="1941480"/>
              <a:ext cx="1523880" cy="34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Text Box 5"/>
            <p:cNvSpPr/>
            <p:nvPr/>
          </p:nvSpPr>
          <p:spPr>
            <a:xfrm>
              <a:off x="5562360" y="1108080"/>
              <a:ext cx="3407040" cy="8254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location where you installed OpenModel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8"/>
          <p:cNvGrpSpPr/>
          <p:nvPr/>
        </p:nvGrpSpPr>
        <p:grpSpPr>
          <a:xfrm>
            <a:off x="174600" y="960480"/>
            <a:ext cx="3406680" cy="1554120"/>
            <a:chOff x="174600" y="960480"/>
            <a:chExt cx="3406680" cy="1554120"/>
          </a:xfrm>
        </p:grpSpPr>
        <p:sp>
          <p:nvSpPr>
            <p:cNvPr id="170" name="Text Box 5"/>
            <p:cNvSpPr/>
            <p:nvPr/>
          </p:nvSpPr>
          <p:spPr>
            <a:xfrm>
              <a:off x="174600" y="960480"/>
              <a:ext cx="34066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roject direct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877760" y="1424160"/>
              <a:ext cx="1475280" cy="109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Group 11"/>
          <p:cNvGrpSpPr/>
          <p:nvPr/>
        </p:nvGrpSpPr>
        <p:grpSpPr>
          <a:xfrm>
            <a:off x="174600" y="2669760"/>
            <a:ext cx="7750080" cy="662040"/>
            <a:chOff x="174600" y="2669760"/>
            <a:chExt cx="7750080" cy="662040"/>
          </a:xfrm>
        </p:grpSpPr>
        <p:sp>
          <p:nvSpPr>
            <p:cNvPr id="173" name="Text Box 5"/>
            <p:cNvSpPr/>
            <p:nvPr/>
          </p:nvSpPr>
          <p:spPr>
            <a:xfrm>
              <a:off x="174600" y="2872080"/>
              <a:ext cx="77500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GNU debugger (not Microsoft/Apple-provided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4"/>
            <p:cNvSpPr/>
            <p:nvPr/>
          </p:nvSpPr>
          <p:spPr>
            <a:xfrm flipV="1">
              <a:off x="2851560" y="2669760"/>
              <a:ext cx="501120" cy="20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65BC1-0331-40AD-8D9D-6B8220A2E8E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03B91-1D3D-45AC-BAB5-3EDBC0498BE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3" name="Line 4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20AFB-FB17-47CB-B829-0254007270C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EF970-2767-4335-AADF-9E6DB191D35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Line 4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4797360"/>
            <a:ext cx="31687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6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159F3-EDE3-438B-A615-BBCF3B847F4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8" name="Line 4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DC7C3-A7C1-4B39-BF4B-51AA6BD5384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402B0-AD1B-4905-B9CF-8FA04077135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BA681-15D3-48EC-BF66-6AEE07DE15E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10" name="Line 5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61D50-1F81-460A-844B-96445C3C5EB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57853-79E5-4EB9-A327-35D56743C3D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(1.0 Draft or 2.0) and the slides if you need additional information during the exerci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24479-8A79-482A-A50C-DC17F0B027F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A2847-0CD1-47BB-A404-05EB62407E0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A1379-83BD-4F7E-90C0-073238C7B41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470B9-AD84-488E-8A39-AD1A61C2387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5CF66-C65B-4BB9-BA7E-0846681AE9E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2AAC4-2500-4FF5-8DBB-376A5622FB9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D3DC0-5125-4BD5-A3D2-C76ACDDE404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9C040-3869-465C-81D2-40B85632FEC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47225-C4FC-49CC-A480-5F4047165B0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8A42A-C650-43AE-925D-6662018378F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C48C3-E566-4992-A720-74F971BFE9D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167AF-1CD9-479A-8514-95A04535EB7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FADD0-6DCE-440F-8A67-3C99002415F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ort  install depends:openmodelica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D8A2B-A558-4039-8D3D-C4A1A677790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60B7F-5CFF-4474-9926-FA167FAE67C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75896-D3A3-407E-8867-5748F0D4694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7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MEdit connection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ew version in OpenModelica 1.8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244B9-249E-4EDB-88AE-E7F56971083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OpenModelica 1.7.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Currently implemented in 194 000 lines of MetaModelica (excl. generated code, external C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D2F6B-2840-4363-8C86-D088772F7E3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E3971-8080-44FD-A776-FE104976CFB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03040" y="765000"/>
          <a:ext cx="8510760" cy="24054120"/>
        </p:xfrm>
        <a:graphic>
          <a:graphicData uri="http://schemas.openxmlformats.org/drawingml/2006/table">
            <a:tbl>
              <a:tblPr/>
              <a:tblGrid>
                <a:gridCol w="3237120"/>
                <a:gridCol w="5273640"/>
              </a:tblGrid>
              <a:tr h="4921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FDAB4-5014-4C1D-8D19-4D8B5661B26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op of the Qt4 GUI library, portable between Windows, Linux, M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C550D-604D-4BB6-89A9-4A4991F8FEB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3710B-9637-4424-B755-129B2151E2D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E9D28-6735-477C-8D8B-C173FFBDBF9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F7701-3DEC-45EE-B912-43EE20D5F05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9" name="Oval 6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7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6DDA8-6D6A-4B30-A0A5-F03CFA65AE2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F9EB4-03F9-40FA-AACC-483BF61ED28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B6B54-8DA9-4A5D-9CC3-61DC4FADF15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1A3F4-829A-4213-BAE1-E9C384C9E1F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olund</cp:lastModifiedBy>
  <cp:lastPrinted>2001-06-05T14:43:50Z</cp:lastPrinted>
  <dcterms:modified xsi:type="dcterms:W3CDTF">2011-09-17T10:39:23Z</dcterms:modified>
  <cp:revision>69</cp:revision>
  <dc:subject>MetaModelica</dc:subject>
  <dc:title>MetaModelica Tutorial and Exercises</dc:title>
</cp:coreProperties>
</file>